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FBE-CC2D-4C38-95AF-1D258EFD735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matma4u.akcja.pl/twierdzenia/liczby/lr.htm" TargetMode="External"/><Relationship Id="rId2" Type="http://schemas.openxmlformats.org/officeDocument/2006/relationships/hyperlink" Target="http://matma4u.akcja.pl/twierdzenia/liczby/lr.htm" TargetMode="External"/><Relationship Id="rId3" Type="http://schemas.openxmlformats.org/officeDocument/2006/relationships/hyperlink" Target="http://matma4u.akcja.pl/twierdzenia/liczby/lc.htm" TargetMode="External"/><Relationship Id="rId4" Type="http://schemas.openxmlformats.org/officeDocument/2006/relationships/hyperlink" Target="http://matma4u.akcja.pl/twierdzenia/liczby/lc.htm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żna ustawić 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iąg nieskończon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ażd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iczba wymier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zwinięcie dziesiętne skończ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ieskończone okresow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y wymierne są po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zb rzeczywis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a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czb całkowi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 którego należą wszystkie liczby dające się przedstawić w postaci ilorazu dwóch liczb całkowit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E9B-5770-4C9C-B322-656D4521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0C9-FE7D-4BB6-98F5-E9AB1B02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FDF-47B0-4344-A3BC-E88CC00F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DB7-E8E5-4AC5-81F0-9593F780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8313-8F7E-4C66-8973-DF50B440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CD1-E1DB-474A-A33E-EE3FEFC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1515-5DD1-4F13-B0F3-1CA314F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EE92-F579-4A14-8A94-CFB5428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72E-F4A1-483B-A4F9-04C6BC5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00BA-740E-4B11-B171-9F36488B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9317-79DB-4E73-8B87-D18D1E3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196-9A1C-4F0A-9638-39B196C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4719-BD88-4005-BCEE-9F85DEA2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D11-313D-4CB2-9178-9A73F39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32F-9258-4320-9257-1E3ABA6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4B7-A84F-47E8-AA0F-CB3870E8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82E9-D066-4C9A-B2CB-35E80990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8B3-8A99-4D3A-AC1C-D128147F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6DB-2BD6-4B4E-A573-176B838A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16E-6295-4A95-AED0-D022465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25C-2283-4B78-BCC8-E9023D4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FA4-1D1D-41EF-9D23-EEA579B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E2B-2E0E-4D7C-92BE-5A2D3F3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DD8-5E8A-454F-8F08-232E91C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45F7-6D44-48C2-A20B-7421A2ECA1C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9AE-951B-473B-84CC-BAF1DAE5C5E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ZBIÓR LICZB RZECZYWISTYCH I JEGO PODZBIO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rzeczywis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Zbiór liczb natur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Zbiór liczb całkowi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wymier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niewymier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żda liczba wymierna ma rozwinięcie dziesiętne skończone (a) lub nieskończone okresowe (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78120" y="3068640"/>
            <a:ext cx="3161520" cy="2303280"/>
            <a:chOff x="978120" y="3068640"/>
            <a:chExt cx="3161520" cy="23032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788840" y="3168360"/>
                  <a:ext cx="2350800" cy="22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,5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: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978120" y="306864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07560" y="3141720"/>
            <a:ext cx="3020040" cy="2160000"/>
            <a:chOff x="4507560" y="3141720"/>
            <a:chExt cx="3020040" cy="2160000"/>
          </a:xfrm>
        </p:grpSpPr>
        <p:sp>
          <p:nvSpPr>
            <p:cNvPr id="208" name=""/>
            <p:cNvSpPr/>
            <p:nvPr/>
          </p:nvSpPr>
          <p:spPr>
            <a:xfrm>
              <a:off x="4507560" y="314172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279040" y="3235320"/>
                  <a:ext cx="2248560" cy="20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66666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1212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2323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 advTm="17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53440" cy="117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czby niewymierne to liczby, których nie można przedstawić w postaci ilorazu dwóch liczb całkowity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1160" y="4008600"/>
                <a:ext cx="2220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03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637000"/>
            <a:ext cx="831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iewymier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zykłady liczb niewymier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84760" y="4033800"/>
                <a:ext cx="24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47242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64000" y="4724280"/>
                <a:ext cx="939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57340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08720" y="5734080"/>
                <a:ext cx="509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a liczba niewymierna ma rozwinięcie dziesię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eskończone nieokreso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284640"/>
            <a:ext cx="3924360" cy="1512720"/>
          </a:xfrm>
          <a:prstGeom prst="wedgeEllipseCallout">
            <a:avLst>
              <a:gd name="adj1" fmla="val -36810"/>
              <a:gd name="adj2" fmla="val -88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3500280"/>
            <a:ext cx="1726920" cy="863640"/>
          </a:xfrm>
          <a:prstGeom prst="wedgeEllipseCallout">
            <a:avLst>
              <a:gd name="adj1" fmla="val -38972"/>
              <a:gd name="adj2" fmla="val 290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22936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niewymierne NW są podzbiorem liczb rzeczywisty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RZECZYWIST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y rzeczyw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eden z najważniejszych zbiorów w całej matematyce. Intuicyjnie ich definicja jest dość prosta - liczbę rzeczywistą utożsamiamy z odległością na prost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rzeczywistych 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biór będący sumą zbiorów licz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miernych (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wymiernych (NW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W ⊂ R ⊃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czby rzeczyw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nie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całkow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zby natur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860640"/>
            <a:ext cx="3924360" cy="2737080"/>
          </a:xfrm>
          <a:prstGeom prst="wedgeEllipseCallout">
            <a:avLst>
              <a:gd name="adj1" fmla="val -36810"/>
              <a:gd name="adj2" fmla="val 17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797360"/>
            <a:ext cx="1008000" cy="503280"/>
          </a:xfrm>
          <a:prstGeom prst="wedgeEllipseCallout">
            <a:avLst>
              <a:gd name="adj1" fmla="val -33148"/>
              <a:gd name="adj2" fmla="val 3422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407664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72428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73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1083400">
            <a:off x="4763880" y="4722480"/>
            <a:ext cx="2000160" cy="1260360"/>
          </a:xfrm>
          <a:custGeom>
            <a:avLst/>
            <a:gdLst/>
            <a:ahLst/>
            <a:rect l="l" t="t" r="r" b="b"/>
            <a:pathLst>
              <a:path w="1187" h="510">
                <a:moveTo>
                  <a:pt x="8" y="488"/>
                </a:moveTo>
                <a:lnTo>
                  <a:pt x="17" y="510"/>
                </a:lnTo>
                <a:lnTo>
                  <a:pt x="1187" y="41"/>
                </a:lnTo>
                <a:lnTo>
                  <a:pt x="1171" y="0"/>
                </a:lnTo>
                <a:lnTo>
                  <a:pt x="0" y="468"/>
                </a:lnTo>
                <a:lnTo>
                  <a:pt x="8" y="4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180600">
            <a:off x="2974680" y="4896000"/>
            <a:ext cx="3286080" cy="512640"/>
          </a:xfrm>
          <a:custGeom>
            <a:avLst/>
            <a:gdLst/>
            <a:ahLst/>
            <a:rect l="l" t="t" r="r" b="b"/>
            <a:pathLst>
              <a:path w="2651" h="334">
                <a:moveTo>
                  <a:pt x="1" y="311"/>
                </a:moveTo>
                <a:lnTo>
                  <a:pt x="4" y="334"/>
                </a:lnTo>
                <a:lnTo>
                  <a:pt x="2651" y="44"/>
                </a:lnTo>
                <a:lnTo>
                  <a:pt x="2645" y="0"/>
                </a:lnTo>
                <a:lnTo>
                  <a:pt x="0" y="289"/>
                </a:lnTo>
                <a:lnTo>
                  <a:pt x="1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3865680"/>
            <a:ext cx="1627200" cy="782640"/>
          </a:xfrm>
          <a:custGeom>
            <a:avLst/>
            <a:gdLst/>
            <a:ahLst/>
            <a:rect l="l" t="t" r="r" b="b"/>
            <a:pathLst>
              <a:path w="1371" h="347">
                <a:moveTo>
                  <a:pt x="1366" y="325"/>
                </a:moveTo>
                <a:lnTo>
                  <a:pt x="1371" y="302"/>
                </a:lnTo>
                <a:lnTo>
                  <a:pt x="11" y="0"/>
                </a:lnTo>
                <a:lnTo>
                  <a:pt x="0" y="43"/>
                </a:lnTo>
                <a:lnTo>
                  <a:pt x="1360" y="347"/>
                </a:lnTo>
                <a:lnTo>
                  <a:pt x="1366" y="3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066680" cy="762120"/>
          </a:xfrm>
          <a:custGeom>
            <a:avLst/>
            <a:gdLst/>
            <a:ahLst/>
            <a:rect l="l" t="t" r="r" b="b"/>
            <a:pathLst>
              <a:path w="417" h="307">
                <a:moveTo>
                  <a:pt x="12" y="290"/>
                </a:moveTo>
                <a:lnTo>
                  <a:pt x="26" y="307"/>
                </a:lnTo>
                <a:lnTo>
                  <a:pt x="417" y="36"/>
                </a:lnTo>
                <a:lnTo>
                  <a:pt x="391" y="0"/>
                </a:lnTo>
                <a:lnTo>
                  <a:pt x="0" y="271"/>
                </a:lnTo>
                <a:lnTo>
                  <a:pt x="12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4040" y="3133800"/>
            <a:ext cx="1824120" cy="644400"/>
          </a:xfrm>
          <a:custGeom>
            <a:avLst/>
            <a:gdLst/>
            <a:ahLst/>
            <a:rect l="l" t="t" r="r" b="b"/>
            <a:pathLst>
              <a:path w="1149" h="406">
                <a:moveTo>
                  <a:pt x="1142" y="385"/>
                </a:moveTo>
                <a:lnTo>
                  <a:pt x="1149" y="363"/>
                </a:lnTo>
                <a:lnTo>
                  <a:pt x="14" y="0"/>
                </a:lnTo>
                <a:lnTo>
                  <a:pt x="0" y="41"/>
                </a:lnTo>
                <a:lnTo>
                  <a:pt x="1135" y="406"/>
                </a:lnTo>
                <a:lnTo>
                  <a:pt x="1142" y="3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6640" y="3135240"/>
            <a:ext cx="917640" cy="617760"/>
          </a:xfrm>
          <a:custGeom>
            <a:avLst/>
            <a:gdLst/>
            <a:ahLst/>
            <a:rect l="l" t="t" r="r" b="b"/>
            <a:pathLst>
              <a:path w="578" h="389">
                <a:moveTo>
                  <a:pt x="12" y="371"/>
                </a:moveTo>
                <a:lnTo>
                  <a:pt x="24" y="389"/>
                </a:lnTo>
                <a:lnTo>
                  <a:pt x="578" y="38"/>
                </a:lnTo>
                <a:lnTo>
                  <a:pt x="554" y="0"/>
                </a:lnTo>
                <a:lnTo>
                  <a:pt x="0" y="352"/>
                </a:lnTo>
                <a:lnTo>
                  <a:pt x="12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2378160"/>
            <a:ext cx="1511280" cy="527040"/>
          </a:xfrm>
          <a:custGeom>
            <a:avLst/>
            <a:gdLst/>
            <a:ahLst/>
            <a:rect l="l" t="t" r="r" b="b"/>
            <a:pathLst>
              <a:path w="952" h="332">
                <a:moveTo>
                  <a:pt x="946" y="311"/>
                </a:moveTo>
                <a:lnTo>
                  <a:pt x="952" y="289"/>
                </a:lnTo>
                <a:lnTo>
                  <a:pt x="14" y="0"/>
                </a:lnTo>
                <a:lnTo>
                  <a:pt x="0" y="43"/>
                </a:lnTo>
                <a:lnTo>
                  <a:pt x="939" y="332"/>
                </a:lnTo>
                <a:lnTo>
                  <a:pt x="946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7560" y="2379600"/>
            <a:ext cx="1148040" cy="662040"/>
          </a:xfrm>
          <a:custGeom>
            <a:avLst/>
            <a:gdLst/>
            <a:ahLst/>
            <a:rect l="l" t="t" r="r" b="b"/>
            <a:pathLst>
              <a:path w="723" h="417">
                <a:moveTo>
                  <a:pt x="11" y="398"/>
                </a:moveTo>
                <a:lnTo>
                  <a:pt x="22" y="417"/>
                </a:lnTo>
                <a:lnTo>
                  <a:pt x="723" y="39"/>
                </a:lnTo>
                <a:lnTo>
                  <a:pt x="701" y="0"/>
                </a:lnTo>
                <a:lnTo>
                  <a:pt x="0" y="378"/>
                </a:lnTo>
                <a:lnTo>
                  <a:pt x="11" y="3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9000" y="1623960"/>
            <a:ext cx="1516320" cy="633600"/>
          </a:xfrm>
          <a:custGeom>
            <a:avLst/>
            <a:gdLst/>
            <a:ahLst/>
            <a:rect l="l" t="t" r="r" b="b"/>
            <a:pathLst>
              <a:path w="955" h="399">
                <a:moveTo>
                  <a:pt x="947" y="379"/>
                </a:moveTo>
                <a:lnTo>
                  <a:pt x="955" y="358"/>
                </a:lnTo>
                <a:lnTo>
                  <a:pt x="16" y="0"/>
                </a:lnTo>
                <a:lnTo>
                  <a:pt x="0" y="41"/>
                </a:lnTo>
                <a:lnTo>
                  <a:pt x="939" y="399"/>
                </a:lnTo>
                <a:lnTo>
                  <a:pt x="947" y="3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623960"/>
            <a:ext cx="1517400" cy="623880"/>
          </a:xfrm>
          <a:custGeom>
            <a:avLst/>
            <a:gdLst/>
            <a:ahLst/>
            <a:rect l="l" t="t" r="r" b="b"/>
            <a:pathLst>
              <a:path w="956" h="393">
                <a:moveTo>
                  <a:pt x="8" y="371"/>
                </a:moveTo>
                <a:lnTo>
                  <a:pt x="16" y="393"/>
                </a:lnTo>
                <a:lnTo>
                  <a:pt x="956" y="41"/>
                </a:lnTo>
                <a:lnTo>
                  <a:pt x="941" y="0"/>
                </a:lnTo>
                <a:lnTo>
                  <a:pt x="0" y="351"/>
                </a:lnTo>
                <a:lnTo>
                  <a:pt x="8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952880"/>
            <a:ext cx="1011240" cy="581040"/>
          </a:xfrm>
          <a:custGeom>
            <a:avLst/>
            <a:gdLst/>
            <a:ahLst/>
            <a:rect l="l" t="t" r="r" b="b"/>
            <a:pathLst>
              <a:path w="291" h="330">
                <a:moveTo>
                  <a:pt x="273" y="315"/>
                </a:moveTo>
                <a:lnTo>
                  <a:pt x="291" y="301"/>
                </a:lnTo>
                <a:lnTo>
                  <a:pt x="36" y="0"/>
                </a:lnTo>
                <a:lnTo>
                  <a:pt x="0" y="28"/>
                </a:lnTo>
                <a:lnTo>
                  <a:pt x="257" y="330"/>
                </a:lnTo>
                <a:lnTo>
                  <a:pt x="273" y="3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943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33412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34120" y="5257800"/>
          <a:ext cx="2909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4120" y="5257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3341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657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8195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7432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440" y="457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dział liczb </a:t>
            </a:r>
            <a:r>
              <a:rPr b="1" lang="en-US" sz="2400" spc="-1" strike="noStrike">
                <a:solidFill>
                  <a:srgbClr val="ff3d0f"/>
                </a:solidFill>
                <a:latin typeface="Arial"/>
              </a:rPr>
              <a:t>rzeczywi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476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2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0" y="13"/>
                </a:lnTo>
                <a:lnTo>
                  <a:pt x="1178" y="20"/>
                </a:lnTo>
                <a:lnTo>
                  <a:pt x="1196" y="28"/>
                </a:lnTo>
                <a:lnTo>
                  <a:pt x="1212" y="36"/>
                </a:lnTo>
                <a:lnTo>
                  <a:pt x="1227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2" y="98"/>
                </a:lnTo>
                <a:lnTo>
                  <a:pt x="1280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0" y="206"/>
                </a:lnTo>
                <a:lnTo>
                  <a:pt x="1272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7" y="271"/>
                </a:lnTo>
                <a:lnTo>
                  <a:pt x="1212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0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2" y="318"/>
                </a:lnTo>
                <a:lnTo>
                  <a:pt x="191" y="316"/>
                </a:lnTo>
                <a:lnTo>
                  <a:pt x="169" y="314"/>
                </a:lnTo>
                <a:lnTo>
                  <a:pt x="150" y="310"/>
                </a:lnTo>
                <a:lnTo>
                  <a:pt x="129" y="304"/>
                </a:lnTo>
                <a:lnTo>
                  <a:pt x="111" y="298"/>
                </a:lnTo>
                <a:lnTo>
                  <a:pt x="94" y="289"/>
                </a:lnTo>
                <a:lnTo>
                  <a:pt x="77" y="281"/>
                </a:lnTo>
                <a:lnTo>
                  <a:pt x="62" y="271"/>
                </a:lnTo>
                <a:lnTo>
                  <a:pt x="49" y="260"/>
                </a:lnTo>
                <a:lnTo>
                  <a:pt x="36" y="248"/>
                </a:lnTo>
                <a:lnTo>
                  <a:pt x="25" y="234"/>
                </a:lnTo>
                <a:lnTo>
                  <a:pt x="17" y="220"/>
                </a:lnTo>
                <a:lnTo>
                  <a:pt x="9" y="206"/>
                </a:lnTo>
                <a:lnTo>
                  <a:pt x="4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4" y="127"/>
                </a:lnTo>
                <a:lnTo>
                  <a:pt x="9" y="112"/>
                </a:lnTo>
                <a:lnTo>
                  <a:pt x="17" y="98"/>
                </a:lnTo>
                <a:lnTo>
                  <a:pt x="25" y="83"/>
                </a:lnTo>
                <a:lnTo>
                  <a:pt x="36" y="71"/>
                </a:lnTo>
                <a:lnTo>
                  <a:pt x="49" y="59"/>
                </a:lnTo>
                <a:lnTo>
                  <a:pt x="62" y="47"/>
                </a:lnTo>
                <a:lnTo>
                  <a:pt x="77" y="36"/>
                </a:lnTo>
                <a:lnTo>
                  <a:pt x="94" y="28"/>
                </a:lnTo>
                <a:lnTo>
                  <a:pt x="111" y="20"/>
                </a:lnTo>
                <a:lnTo>
                  <a:pt x="129" y="13"/>
                </a:lnTo>
                <a:lnTo>
                  <a:pt x="150" y="8"/>
                </a:lnTo>
                <a:lnTo>
                  <a:pt x="169" y="4"/>
                </a:lnTo>
                <a:lnTo>
                  <a:pt x="191" y="1"/>
                </a:lnTo>
                <a:lnTo>
                  <a:pt x="212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1828800"/>
          <a:ext cx="29098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2666880"/>
          <a:ext cx="29098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86200" y="2666880"/>
          <a:ext cx="2909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3505320"/>
          <a:ext cx="290988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429000" y="3505320"/>
          <a:ext cx="290988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4343400"/>
          <a:ext cx="29098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5181480"/>
          <a:ext cx="2909880" cy="7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51814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00400" y="5791320"/>
          <a:ext cx="2909880" cy="749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4343400"/>
          <a:ext cx="2909880" cy="74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19720" y="114300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38480" y="990720"/>
          <a:ext cx="2909880" cy="74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9907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9412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828800"/>
          <a:ext cx="2909880" cy="74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naturalne to dodatnie cał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liczba zero czyli 0, 1, 2, 3, 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atural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 = { 0, 1, 2, 3, 4, 5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86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NATURALN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378936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4365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300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naturalnych jest podzbiorem liczb całkowi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81000"/>
            <a:ext cx="842472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ierwsz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dzielą się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lko przez 1 i przez samą siebie: 2, 3, 5, 7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97360"/>
            <a:ext cx="828036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złożo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posiadaj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ęcej niż dwa dzielniki: 4, 6, 9, 24, 75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0 i 1 nie należą ani do liczb pierwszych ani do złożo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76280"/>
            <a:ext cx="8424720" cy="185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rzeciw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e różni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ę znakiem i których suma wynosi 0.  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przeciwna do liczby 2  to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213000"/>
            <a:ext cx="8425080" cy="2504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odwrot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y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loczyn wynosi 1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odwrotna do liczby 2 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4365720"/>
            <a:ext cx="7921440" cy="861840"/>
            <a:chOff x="324000" y="4365720"/>
            <a:chExt cx="7921440" cy="8618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194600" y="4365720"/>
                  <a:ext cx="27288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24000" y="4694040"/>
              <a:ext cx="7921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263700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całkowit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 = { 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5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CAŁKOWIT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589720"/>
            <a:ext cx="82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całkowite są podzbiorem liczb wymierny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całkowite to liczby naturalne oraz licz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ich przeciw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71628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144000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941720"/>
            <a:ext cx="71928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404640"/>
            <a:ext cx="849780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podzielne przez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9264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dodatni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ujem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ujemn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dodatni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8713800" cy="97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nie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niepodzielne przez 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341360"/>
            <a:ext cx="842472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wymierne W to wszystkie liczby, które można przedstawić w postaci ilorazu liczb całkowitych, gdzie mianownik jest liczbą różną od 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2781360"/>
            <a:ext cx="8496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iczby wymierne to wszystkie liczby naturalne, całkowite oraz wszystkie ułamki dodatnie i ujem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716280"/>
            <a:ext cx="4032360" cy="2133720"/>
          </a:xfrm>
          <a:prstGeom prst="wedgeEllipseCallout">
            <a:avLst>
              <a:gd name="adj1" fmla="val -37166"/>
              <a:gd name="adj2" fmla="val 8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933720"/>
            <a:ext cx="2808360" cy="1871640"/>
          </a:xfrm>
          <a:prstGeom prst="wedgeEllipseCallout">
            <a:avLst>
              <a:gd name="adj1" fmla="val -9412"/>
              <a:gd name="adj2" fmla="val -58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4972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24280"/>
            <a:ext cx="71892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zby wymierne są podzbiorem liczb rzeczywistych R i nadzbiorem licz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łkowitych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0:36Z</dcterms:created>
  <dc:creator>nauczyciel</dc:creator>
  <dc:description/>
  <dc:language>en-US</dc:language>
  <cp:lastModifiedBy>Matematyka</cp:lastModifiedBy>
  <dcterms:modified xsi:type="dcterms:W3CDTF">2014-01-03T14:53:57Z</dcterms:modified>
  <cp:revision>64</cp:revision>
  <dc:subject/>
  <dc:title>ZBIÓR LICZB RZECZYWISTYCH I JEGO PODZBIORY</dc:title>
</cp:coreProperties>
</file>